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1C3-E816-4583-AD2D-896AD08E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8C2-B09A-4A5F-A1DA-763148FC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282-EEFD-4DE0-80A7-C76C7E9A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FEC-17C1-4CDD-B5B5-690E1E5B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768-5514-404F-9568-9C325FC4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86F-68B1-480B-99F9-C99CBF31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4FB-5CF1-4C9F-ACEB-EE70F355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985-ED21-4E9A-A61C-9CA75927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85A-7D59-42D7-A226-85D86AE6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CC2-8C43-4BF4-B8B3-55C5DBE0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2BB-74B1-4067-ABD5-AD82AFD6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1E47-5838-40B2-A63C-0AD5AD9D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D5E1-8FD9-4885-8FBC-CB33CD792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fff3b"/>
                </a:solidFill>
                <a:latin typeface="Arial"/>
              </a:rPr>
              <a:t>W.o.gs on the gold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By Alexander And Dan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fff3b"/>
                </a:solidFill>
                <a:latin typeface="Arial"/>
              </a:rPr>
              <a:t>What did the W.o.gs wear?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141300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ff3b"/>
                </a:solidFill>
                <a:latin typeface="Times New Roman"/>
              </a:rPr>
              <a:t>Chinese men wore there hair like a ponytail which together with their distinctive cloth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fff3b"/>
                </a:solidFill>
                <a:latin typeface="Arial"/>
              </a:rPr>
              <a:t>Did any of the W.o.gs dig for g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Yeah, they did dig for gold but they didn’t dig for there holes they dug from other people’s h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fff3b"/>
                </a:solidFill>
                <a:latin typeface="Arial"/>
              </a:rPr>
              <a:t>Did any children go to the gold fiel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There were some children but not a lot because only men were on the gold fie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fff3b"/>
                </a:solidFill>
                <a:latin typeface="Arial"/>
              </a:rPr>
              <a:t>Did any of the Chinese di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A small group charged the Chinese ca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Eye witnesses stated that European and American diggers attacked the Chinese with timber and ax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fff3b"/>
                </a:solidFill>
                <a:latin typeface="Arial"/>
              </a:rPr>
              <a:t>Why were they called W.o.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They were called W.o.gs because they w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Ori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Gentl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fff3b"/>
                </a:solidFill>
                <a:latin typeface="Arial"/>
              </a:rPr>
              <a:t>Did any of the Chinese want to come h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Almost all the Chinese who came to Australia, came with the intention of returning home to their famil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fff3b"/>
                </a:solidFill>
                <a:latin typeface="Arial"/>
              </a:rPr>
              <a:t>Was there a war between them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After a series of violent clashes between Chinese and white miners at the Buckland River gold field in Victoria in 1857, a Sydney reporter wrote, "the increasing number of celestials has been gradually creating a feverish and dangerous state of excitement"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fff3b"/>
                </a:solidFill>
                <a:latin typeface="Arial"/>
              </a:rPr>
              <a:t>What kind of Food did they 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ff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ff3b"/>
                </a:solidFill>
                <a:latin typeface="Arial"/>
              </a:rPr>
              <a:t>They ate mutton and drank t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2:53:16Z</dcterms:created>
  <dc:creator>alexander_luong</dc:creator>
  <dc:description/>
  <dc:language>en-US</dc:language>
  <cp:lastModifiedBy>daniel_ugarte</cp:lastModifiedBy>
  <dcterms:modified xsi:type="dcterms:W3CDTF">2010-09-08T02:32:06Z</dcterms:modified>
  <cp:revision>8</cp:revision>
  <dc:subject/>
  <dc:title>W.o.gs on the goldfield</dc:title>
</cp:coreProperties>
</file>